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10515600" cy="7315200"/>
  <p:notesSz cx="6858000" cy="9294813"/>
  <p:custShowLst>
    <p:custShow name="Chapter Resources" id="0">
      <p:sldLst>
        <p:sld r:id="rId33"/>
        <p:sld r:id="rId34"/>
        <p:sld r:id="rId35"/>
        <p:sld r:id="rId36"/>
        <p:sld r:id="rId37"/>
        <p:sld r:id="rId38"/>
        <p:sld r:id="rId39"/>
        <p:sld r:id="rId40"/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DEF1-6EE7-4E8A-87AC-D2FBF4E10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3726-2B06-46CB-80D7-6328AA93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5A6B-983F-4D28-8561-CA03CAAD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09D4-1586-4363-9F2C-9BD063D28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DC74-9D31-4CAB-B6C0-202B81F42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3D9B-9BE1-4F4B-9C42-26DBE3520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ACCD-DCC5-45EE-90B1-53BF3449A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CFA2-85D9-4582-9C39-489BB9094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EA6A-C609-4BF6-BD63-ABFBA37E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7AAE-7CF8-4D77-8EF4-971737E2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554D-225D-4FE5-A69C-6D51FBDC0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6926-E8AC-4C9C-A29E-8EDA3B9BD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4326-7A9C-4D2D-BB50-AACAADBC7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19AB-3C11-4DC4-9368-A912F77C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BCBB-F85A-4AA1-A45A-95943FDD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4E26-F0E5-43C5-9E34-A76FFFA79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CF46-2FC2-4B46-9DA7-E38E8FACE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8857-C645-48B5-9D2B-2E95B2504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8FEC-1000-44D2-A64D-913192439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211D-EBDC-48C2-849D-AEFE5BCF1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CF2-E8AF-4E57-9E63-717B47BD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C36C-4954-40AA-9582-7997E6892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6B0E-748F-4C57-9881-ACF2DBC5A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47D8-B0C2-4E22-A320-D7A71F791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F396-1B13-4933-A2A1-E7ECF9748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3E94-80C3-4F87-A757-30D1BCDAE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71AD-1DB6-45E7-9D65-11BEEEE7F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8EF6-1C2E-49C9-B453-9CE349BF6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2D11-2D56-4D32-B80D-8321A6A2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AE06-932E-47AC-B188-5081EC84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5808-AD62-469E-96D0-E16680376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83F1-AD1A-493A-AD73-5F44EE851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DF33-0F56-4AD4-A886-C64201112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EFB3-4C5E-48CA-B1D1-B5A8060E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EC4F-2853-4B5C-8B65-6AAE5D67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9442-0DE5-4281-89EC-AEE3342EE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/>
          <p:cNvPicPr/>
          <p:nvPr/>
        </p:nvPicPr>
        <p:blipFill>
          <a:blip r:embed="rId4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/>
          <p:cNvPicPr/>
          <p:nvPr/>
        </p:nvPicPr>
        <p:blipFill>
          <a:blip r:embed="rId3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6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20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eologic_time_scale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era.wav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mp/home/.config/libreoffice/4/user/gallery/period.wav" TargetMode="Externa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ound016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tmp/home/.config/libreoffice/4/user/gallery/plate_tectonics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tmp/home/.config/libreoffice/4/user/gallery/spontaneous_generation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tmp/home/.config/libreoffice/4/user/gallery/theory_of_biogenesis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osymbiont_theory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ssil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tmp/home/.config/libreoffice/4/user/gallery/relative_dating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radiometric_dating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790560" y="1967040"/>
            <a:ext cx="88869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geological time 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model that expresses the major geological and biological events in Earth’s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Geologic Tim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790560" y="358452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geologic time scale is divided into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790560" y="472428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E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Phanerozoic eon include the Paleozoic, Mesozoic, and Cenozoic 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790560" y="586260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ch era is divided into one or mor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peri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04812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2280" y="5334120"/>
            <a:ext cx="409320" cy="3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" descr="AUDIO cop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220320" y="59436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790560" y="2023920"/>
            <a:ext cx="82011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arly 90 percent of Earth’s entire history, stretching from the formation of Earth to the beginning of the Paleozoic era about 542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90560" y="419112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enriched the atmosphere with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790560" y="191916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cestors of most major animal groups diversified in what scientists call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Pale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790560" y="350532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fe in the oceans continued to evolve at the end of the Cambrian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90560" y="460548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appeared during the Ordovician and Silurian peri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790560" y="569592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emerged in the Devon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9718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785880" y="1647720"/>
            <a:ext cx="843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mass extinction ended the Paleozoic era at the end of the Permian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790560" y="294804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tween 60 and 75 percent of the species alive went extin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Mes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790560" y="2023920"/>
            <a:ext cx="8582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first appeared late in the Triassic period, and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790560" y="3703680"/>
            <a:ext cx="8734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irds evolved from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 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 of the Jurassic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790560" y="4896000"/>
            <a:ext cx="8582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65 million years ago, a meteorite struck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785880" y="3811680"/>
            <a:ext cx="889164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900" spc="-1" strike="noStrike">
                <a:solidFill>
                  <a:srgbClr val="a6000d"/>
                </a:solidFill>
                <a:latin typeface="Arial"/>
                <a:ea typeface="Times New Roman"/>
              </a:rPr>
              <a:t>Plate</a:t>
            </a:r>
            <a:r>
              <a:rPr b="0" lang="en-US" sz="29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a6000d"/>
                </a:solidFill>
                <a:latin typeface="Arial"/>
                <a:ea typeface="Times New Roman"/>
              </a:rPr>
              <a:t>tectonic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describes the movement of several large plates that make up the surface of Eart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90560" y="5018040"/>
            <a:ext cx="896292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plates, some of which contain continents, move atop a partially molten layer of rock underneath 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3" descr="ch 14 im 13"/>
          <p:cNvPicPr/>
          <p:nvPr/>
        </p:nvPicPr>
        <p:blipFill>
          <a:blip r:embed="rId1"/>
          <a:stretch/>
        </p:blipFill>
        <p:spPr>
          <a:xfrm>
            <a:off x="1019160" y="1571760"/>
            <a:ext cx="8458200" cy="18428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8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763120" y="43434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785880" y="1311120"/>
            <a:ext cx="80532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Cen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790560" y="2021040"/>
            <a:ext cx="88106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mmals became the dominant land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790560" y="2735280"/>
            <a:ext cx="8505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the mass extinction at the end of the Mesozoic era, mammals of all kinds began to divers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85880" y="1311120"/>
            <a:ext cx="8053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Origins: Early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790560" y="1814400"/>
            <a:ext cx="8810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a6000d"/>
                </a:solidFill>
                <a:latin typeface="Arial"/>
                <a:ea typeface="Times New Roman"/>
              </a:rPr>
              <a:t>Spontaneous 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790560" y="2743200"/>
            <a:ext cx="881064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ancesco Redi, an Italian scientist, tested the idea that flies arose spontaneously from rotting m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0" descr="ch 14 im 15"/>
          <p:cNvPicPr/>
          <p:nvPr/>
        </p:nvPicPr>
        <p:blipFill>
          <a:blip r:embed="rId1"/>
          <a:stretch/>
        </p:blipFill>
        <p:spPr>
          <a:xfrm>
            <a:off x="1957320" y="3700440"/>
            <a:ext cx="6577200" cy="29782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1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362320"/>
            <a:ext cx="4129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3"/>
          <p:cNvSpPr/>
          <p:nvPr/>
        </p:nvSpPr>
        <p:spPr>
          <a:xfrm>
            <a:off x="785880" y="1311120"/>
            <a:ext cx="8053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6000d"/>
                </a:solidFill>
                <a:latin typeface="Arial"/>
                <a:ea typeface="Times New Roman"/>
              </a:rPr>
              <a:t>theory of biogen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tates that *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90560" y="2224080"/>
            <a:ext cx="85057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uis Pasteur designed an experiment to show that biogenesis was true even for micro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3" descr="ch 14  im 16"/>
          <p:cNvPicPr/>
          <p:nvPr/>
        </p:nvPicPr>
        <p:blipFill>
          <a:blip r:embed="rId1"/>
          <a:stretch/>
        </p:blipFill>
        <p:spPr>
          <a:xfrm>
            <a:off x="1371600" y="3154320"/>
            <a:ext cx="7729560" cy="35226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6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1792440"/>
            <a:ext cx="411120" cy="35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785880" y="1311120"/>
            <a:ext cx="80532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Origins: Moder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246320" y="1981080"/>
            <a:ext cx="85071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organic molecul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246320" y="2643120"/>
            <a:ext cx="7859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primordial soup hypothe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as an early hypothesis about the origin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1246320" y="3786120"/>
            <a:ext cx="7859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Organic molec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uld have been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synthesized from simple re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246320" y="4938840"/>
            <a:ext cx="78483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UV light from the S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 electric discharge in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light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ght have been the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primary energy 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8"/>
          <p:cNvSpPr/>
          <p:nvPr/>
        </p:nvSpPr>
        <p:spPr>
          <a:xfrm>
            <a:off x="519120" y="593640"/>
            <a:ext cx="9448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200" spc="-1" strike="noStrike">
                <a:solidFill>
                  <a:srgbClr val="a6000d"/>
                </a:solidFill>
                <a:latin typeface="Arial"/>
              </a:rPr>
              <a:t>The Histor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828800" y="2435400"/>
            <a:ext cx="8050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1835280" y="3170160"/>
            <a:ext cx="73990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3"/>
          <p:cNvSpPr/>
          <p:nvPr/>
        </p:nvSpPr>
        <p:spPr>
          <a:xfrm>
            <a:off x="785880" y="1311120"/>
            <a:ext cx="424332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Stanley Mi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Harold U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ere the first to show that simple organic molecules could be made from inorga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790560" y="3990960"/>
            <a:ext cx="446724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ter, scientists found that hydrogen cyanide could be formed from even simpler molecules in simulated early Earth enviro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ch 14 im 18"/>
          <p:cNvPicPr/>
          <p:nvPr/>
        </p:nvPicPr>
        <p:blipFill>
          <a:blip r:embed="rId1"/>
          <a:stretch/>
        </p:blipFill>
        <p:spPr>
          <a:xfrm>
            <a:off x="5353200" y="1066680"/>
            <a:ext cx="4549680" cy="51278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785880" y="1311120"/>
            <a:ext cx="8663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Making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790560" y="1852560"/>
            <a:ext cx="6296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fe requires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90560" y="2401920"/>
            <a:ext cx="91155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e possible mechanism for the formation of proteins would b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ch 14 im 19"/>
          <p:cNvPicPr/>
          <p:nvPr/>
        </p:nvPicPr>
        <p:blipFill>
          <a:blip r:embed="rId1"/>
          <a:stretch/>
        </p:blipFill>
        <p:spPr>
          <a:xfrm>
            <a:off x="2400480" y="3327480"/>
            <a:ext cx="5671800" cy="33894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Genetic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790560" y="2021040"/>
            <a:ext cx="88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RNA sequences appear to have changed very little through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790560" y="3219480"/>
            <a:ext cx="88106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y biologists consider RNA to have been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790560" y="4414680"/>
            <a:ext cx="8810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researchers have proposed that clay crystals could have provided an initial template for R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ellular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790560" y="2021040"/>
            <a:ext cx="88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Scientists hypothesize that the first cells were prokaryo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790560" y="3219480"/>
            <a:ext cx="90392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y scientists think that modern prokaryotes called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archaea are the closest relatives of Earth’s first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Photosynthesizing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90560" y="2021040"/>
            <a:ext cx="88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ssil evidence of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cyanobac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has been found in rocks as old as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3.5 billion 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762120" y="3276720"/>
            <a:ext cx="90392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Cyanobac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ventually produced enough oxygen to support the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formation of the ozone la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785880" y="1311120"/>
            <a:ext cx="88153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The Endosymbion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90560" y="2014560"/>
            <a:ext cx="9039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cestors of eukaryotic cells lived in association with prokaryotic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790560" y="3205080"/>
            <a:ext cx="8123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lationship between the cells became *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790560" y="5376960"/>
            <a:ext cx="865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heory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explains the origin of chloroplasts and mitochond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4" descr="ch 14 im 30"/>
          <p:cNvPicPr/>
          <p:nvPr/>
        </p:nvPicPr>
        <p:blipFill>
          <a:blip r:embed="rId1"/>
          <a:stretch/>
        </p:blipFill>
        <p:spPr>
          <a:xfrm>
            <a:off x="685800" y="1474920"/>
            <a:ext cx="9140760" cy="45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DQ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1508040" y="2849400"/>
            <a:ext cx="74073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dpoles become fr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rfish can grow from a severed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p hay and corn create 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tiny acorn, an oak can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170000" y="1717560"/>
            <a:ext cx="70596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an example of the theory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ous gener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1442880" y="375912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3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DQ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1508040" y="2849400"/>
            <a:ext cx="52736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lf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4"/>
          <p:cNvSpPr/>
          <p:nvPr/>
        </p:nvSpPr>
        <p:spPr>
          <a:xfrm>
            <a:off x="1170000" y="1717560"/>
            <a:ext cx="7974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gas do scientists think was absent fr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early atmosphe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5"/>
          <p:cNvSpPr/>
          <p:nvPr/>
        </p:nvSpPr>
        <p:spPr>
          <a:xfrm>
            <a:off x="1447920" y="403848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DQ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1508040" y="2849400"/>
            <a:ext cx="397836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mbr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on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ass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1170000" y="1717560"/>
            <a:ext cx="77439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 which period did the first land vertebr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ppe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5"/>
          <p:cNvSpPr/>
          <p:nvPr/>
        </p:nvSpPr>
        <p:spPr>
          <a:xfrm>
            <a:off x="1442880" y="350208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Land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90560" y="2021040"/>
            <a:ext cx="87343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rth formed about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790560" y="2732040"/>
            <a:ext cx="8734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ravity pulled the densest elements to the center of the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790560" y="3919680"/>
            <a:ext cx="8734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about 500 million years, a solid crust formed on the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1508040" y="2844720"/>
            <a:ext cx="43592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gne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morph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diment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ca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1170000" y="1717560"/>
            <a:ext cx="82026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 which type of rock do paleontologists 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for fossi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1461960" y="404496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508040" y="3306600"/>
            <a:ext cx="48164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olute d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ological d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dimentary d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170000" y="1717560"/>
            <a:ext cx="78976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dating method determines the age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ocks by comparing them to rocks in oth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lay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5"/>
          <p:cNvSpPr/>
          <p:nvPr/>
        </p:nvSpPr>
        <p:spPr>
          <a:xfrm>
            <a:off x="1461960" y="450684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1508040" y="3297240"/>
            <a:ext cx="557856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gla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volcanic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it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1170000" y="1717560"/>
            <a:ext cx="8050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geological change during the Mesozo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ra had the greatest effect in shaping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urse of evolu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5"/>
          <p:cNvSpPr/>
          <p:nvPr/>
        </p:nvSpPr>
        <p:spPr>
          <a:xfrm>
            <a:off x="1433520" y="341460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508040" y="3306600"/>
            <a:ext cx="588348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gen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gen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ordial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taneous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1170000" y="1717560"/>
            <a:ext cx="82026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t one time people believed that mold grow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n a piece of cheese was created by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heese. This is the idea of _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9"/>
          <p:cNvSpPr/>
          <p:nvPr/>
        </p:nvSpPr>
        <p:spPr>
          <a:xfrm>
            <a:off x="1447920" y="506880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0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1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1508040" y="3209760"/>
            <a:ext cx="794088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was digested by the host c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became an organelle in the host c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became a harmful parasite in the host c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was removed from the host cell by exocyto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1170000" y="1717560"/>
            <a:ext cx="79740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cording to the endosymbiont theory, what m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happened to a prokaryotic cell that ent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host c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1428840" y="3606840"/>
            <a:ext cx="61092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508040" y="3297240"/>
            <a:ext cx="314028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1170000" y="1717560"/>
            <a:ext cx="85834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n ancient prokaryote containing photosynthet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igments that was engulfed by a host cell m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come a 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5"/>
          <p:cNvSpPr/>
          <p:nvPr/>
        </p:nvSpPr>
        <p:spPr>
          <a:xfrm>
            <a:off x="1442880" y="340668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85880" y="1311120"/>
            <a:ext cx="8434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90560" y="1795320"/>
            <a:ext cx="88869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ases that likely made up the atmosphere are those that were expelled by volcan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1285920" y="2709720"/>
            <a:ext cx="709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vapor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297080" y="3195720"/>
            <a:ext cx="709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dioxide 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1297080" y="3681360"/>
            <a:ext cx="709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lfur dioxide 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305000" y="4167360"/>
            <a:ext cx="7095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monoxide (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1297080" y="4662360"/>
            <a:ext cx="709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ydrogen sulfide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1305000" y="5148360"/>
            <a:ext cx="7095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ydrogen cyanide (H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1305000" y="5634000"/>
            <a:ext cx="709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trogen (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1314360" y="6119640"/>
            <a:ext cx="7096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ydroge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lue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90560" y="201456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foss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90560" y="3200400"/>
            <a:ext cx="8505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st organisms decompose before they have a chance to become fossi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59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conceptsinmotion"/>
          <p:cNvPicPr/>
          <p:nvPr/>
        </p:nvPicPr>
        <p:blipFill>
          <a:blip r:embed="rId1"/>
          <a:stretch/>
        </p:blipFill>
        <p:spPr>
          <a:xfrm>
            <a:off x="7513560" y="522360"/>
            <a:ext cx="24256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MAC OSX sm button"/>
          <p:cNvPicPr/>
          <p:nvPr/>
        </p:nvPicPr>
        <p:blipFill>
          <a:blip r:embed="rId2"/>
          <a:stretch/>
        </p:blipFill>
        <p:spPr>
          <a:xfrm>
            <a:off x="8750160" y="5803920"/>
            <a:ext cx="1054080" cy="5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cmFlash522"/>
          <p:cNvGraphicFramePr/>
          <p:nvPr/>
        </p:nvGraphicFramePr>
        <p:xfrm>
          <a:off x="812880" y="1346040"/>
          <a:ext cx="7886520" cy="497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cmFlash5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80" y="1346040"/>
                    <a:ext cx="78865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Fossil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90560" y="2023920"/>
            <a:ext cx="8582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arly all fossils are formed in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790560" y="322416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ediments build up until they cover the organism’s rem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90560" y="441972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h 14 im 5"/>
          <p:cNvPicPr/>
          <p:nvPr/>
        </p:nvPicPr>
        <p:blipFill>
          <a:blip r:embed="rId1"/>
          <a:stretch/>
        </p:blipFill>
        <p:spPr>
          <a:xfrm>
            <a:off x="576360" y="1025640"/>
            <a:ext cx="4800600" cy="5560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5619600" y="1311120"/>
            <a:ext cx="39211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Dating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624640" y="2008080"/>
            <a:ext cx="4238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Relative d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method used to determine the age of rock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07360" y="4572000"/>
            <a:ext cx="4096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9"/>
          <p:cNvSpPr/>
          <p:nvPr/>
        </p:nvSpPr>
        <p:spPr>
          <a:xfrm>
            <a:off x="790560" y="2009880"/>
            <a:ext cx="4086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th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785880" y="1311120"/>
            <a:ext cx="44719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ch 14 im 6"/>
          <p:cNvPicPr/>
          <p:nvPr/>
        </p:nvPicPr>
        <p:blipFill>
          <a:blip r:embed="rId1"/>
          <a:stretch/>
        </p:blipFill>
        <p:spPr>
          <a:xfrm>
            <a:off x="5243400" y="1152360"/>
            <a:ext cx="4648320" cy="401796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13"/>
          <p:cNvGrpSpPr/>
          <p:nvPr/>
        </p:nvGrpSpPr>
        <p:grpSpPr>
          <a:xfrm>
            <a:off x="790560" y="4167360"/>
            <a:ext cx="8986680" cy="2057760"/>
            <a:chOff x="790560" y="4167360"/>
            <a:chExt cx="8986680" cy="2057760"/>
          </a:xfrm>
        </p:grpSpPr>
        <p:sp>
          <p:nvSpPr>
            <p:cNvPr id="219" name="Text Box 10"/>
            <p:cNvSpPr/>
            <p:nvPr/>
          </p:nvSpPr>
          <p:spPr>
            <a:xfrm>
              <a:off x="790560" y="4167360"/>
              <a:ext cx="41623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760" bIns="50760" anchor="t">
              <a:spAutoFit/>
            </a:bodyPr>
            <a:p>
              <a:pPr marL="254160" indent="-254160">
                <a:buClr>
                  <a:srgbClr val="a6000d"/>
                </a:buClr>
                <a:buFont typeface="Wingdings" charset="2"/>
                <a:buChar char="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dioactive isotopes that can b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2"/>
            <p:cNvSpPr/>
            <p:nvPr/>
          </p:nvSpPr>
          <p:spPr>
            <a:xfrm>
              <a:off x="1042920" y="5148360"/>
              <a:ext cx="87343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760" bIns="50760" anchor="t">
              <a:spAutoFit/>
            </a:bodyPr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ed for radiometric dating are found only i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6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3-10-21T15:24:32Z</dcterms:modified>
  <cp:revision>545</cp:revision>
  <dc:subject/>
  <dc:title>Glencoe Biology</dc:title>
</cp:coreProperties>
</file>